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EAA-AA41-4538-971A-CBB94ACE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88E8-6DB6-406E-BD11-D0ADA690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ED0-8493-4A84-B885-15885689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5008-074A-4693-8B74-917889CB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CFDF-8515-42D0-9C59-96199DFB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6D4-F7C4-4E28-901A-0A3894E2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D953-4036-4F5E-94C4-329ABDC5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9946-204A-4BBB-8F7B-637432B2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4884-6D19-49B8-9756-73DD8CE0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01E-4D61-4AAA-B799-697B3910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91AA-A9F8-4C8F-AC6B-582D19F7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754C-704B-4C45-B22A-38D76484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D738-9E2F-4BB1-8F8D-4533F35F1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DELE SAU PARABOL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E PENTRU VIATA CRES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sus i-a 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învăţat pe oameni pr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46" name="_s24590"/>
            <p:cNvCxnSpPr>
              <a:stCxn id="47" idx="0"/>
              <a:endCxn id="48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24589"/>
            <p:cNvCxnSpPr>
              <a:stCxn id="50" idx="0"/>
              <a:endCxn id="48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24588"/>
            <p:cNvCxnSpPr>
              <a:stCxn id="52" idx="0"/>
              <a:endCxn id="48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8" name="_s24584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100" spc="-1" strike="noStrike">
                  <a:solidFill>
                    <a:srgbClr val="000000"/>
                  </a:solidFill>
                  <a:latin typeface="Arial"/>
                </a:rPr>
                <a:t>IISU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100" spc="-1" strike="noStrike">
                  <a:solidFill>
                    <a:srgbClr val="000000"/>
                  </a:solidFill>
                  <a:latin typeface="Arial"/>
                </a:rPr>
                <a:t>INVATATORU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4585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100" spc="-1" strike="noStrike">
                  <a:solidFill>
                    <a:srgbClr val="000000"/>
                  </a:solidFill>
                  <a:latin typeface="Arial"/>
                </a:rPr>
                <a:t>PILD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4586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100" spc="-1" strike="noStrike">
                  <a:solidFill>
                    <a:srgbClr val="000000"/>
                  </a:solidFill>
                  <a:latin typeface="Arial"/>
                </a:rPr>
                <a:t>MINUN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24587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100" spc="-1" strike="noStrike">
                  <a:solidFill>
                    <a:srgbClr val="000000"/>
                  </a:solidFill>
                  <a:latin typeface="Arial"/>
                </a:rPr>
                <a:t>EXEMPLUL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100" spc="-1" strike="noStrike">
                  <a:solidFill>
                    <a:srgbClr val="000000"/>
                  </a:solidFill>
                  <a:latin typeface="Arial"/>
                </a:rPr>
                <a:t>PERS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Pilda samariteanului milost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amenii trebuie s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-si ajute semenii aflati in suferin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ţă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uneori trebuie s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facem aceasta chiar dac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risc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 unele lucr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u este suficient s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ajut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 pur si simplu pe cineva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trebuie s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ne preocupe 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 ceea ce se va 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t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â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pla cu acea persoan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 vi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0560" y="1600200"/>
            <a:ext cx="391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Arial Rounded MT Bold"/>
              </a:rPr>
              <a:t>Pilda vamesului si a fariseul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Bodoni MT"/>
              </a:rPr>
              <a:t>ne este oferit un modelul de rugăciune al omului mândru şi al celui sme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Bodoni MT"/>
              </a:rPr>
              <a:t>putem identifica în biserică fiecare din aceste modele, deşi Iisus a specificat caracterul rugăciunii 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0560" y="1600200"/>
            <a:ext cx="391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 Rounded MT Bold"/>
              </a:rPr>
              <a:t>Pilda celor zece fecio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Bodoni MT"/>
              </a:rPr>
              <a:t>Cele zece fecio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403884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06:21:00Z</dcterms:created>
  <dc:creator>cursant</dc:creator>
  <dc:description/>
  <dc:language>en-US</dc:language>
  <cp:lastModifiedBy>cursant</cp:lastModifiedBy>
  <dcterms:modified xsi:type="dcterms:W3CDTF">2010-09-03T09:17:58Z</dcterms:modified>
  <cp:revision>5</cp:revision>
  <dc:subject/>
  <dc:title>PILDE SAU PARABOLE</dc:title>
</cp:coreProperties>
</file>